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FB84-4930-4A28-B58E-23467EFFF27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2EC6-4655-48E1-8DC3-D5FACCBCCE6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BD16-6C4E-4FCA-974C-ACE91D95D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B610-7428-482B-A671-A1432904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11DF-9617-40B3-88B4-743A6EE3F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7A1C-F8DC-4214-AA61-53763BF1B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13F8-F016-49D7-8F5B-BBBBF67F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7AA4-940E-425F-ABA3-3910C484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7E49-B7B6-4861-B388-4D860A39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0012-D859-48E2-BD5C-C4DAABD1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F746-CE10-4098-AE12-F0289CEB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747F-E7A1-450A-9D6A-BE336484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E05A-05C9-470D-A428-2680836F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3913-7480-4FDF-8E0A-776B75EA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6F22-7851-4177-A79E-4DE1C3C5374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ttangolo 2"/>
          <p:cNvSpPr/>
          <p:nvPr/>
        </p:nvSpPr>
        <p:spPr>
          <a:xfrm>
            <a:off x="692280" y="5762520"/>
            <a:ext cx="775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ABSTRA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ES: Un percorso di </a:t>
            </a:r>
            <a:r>
              <a:rPr b="1" i="1" lang="it-IT" sz="1800" spc="-1" strike="noStrike">
                <a:solidFill>
                  <a:srgbClr val="000066"/>
                </a:solidFill>
                <a:latin typeface="Arial"/>
              </a:rPr>
              <a:t>media-education</a:t>
            </a: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 per una cittadinanza in rete sostenibile e consapev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asellaDiTesto 2"/>
          <p:cNvSpPr/>
          <p:nvPr/>
        </p:nvSpPr>
        <p:spPr>
          <a:xfrm>
            <a:off x="2627280" y="335772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VENTUALE IMMAGINE RAPPRESENT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asellaDiTesto 4"/>
          <p:cNvSpPr/>
          <p:nvPr/>
        </p:nvSpPr>
        <p:spPr>
          <a:xfrm>
            <a:off x="611280" y="620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OGO SCU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asellaDiTesto 5"/>
          <p:cNvSpPr/>
          <p:nvPr/>
        </p:nvSpPr>
        <p:spPr>
          <a:xfrm>
            <a:off x="6732720" y="620640"/>
            <a:ext cx="22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060"/>
                </a:solidFill>
                <a:latin typeface="Arial"/>
              </a:rPr>
              <a:t>Festival nazionale S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060"/>
                </a:solidFill>
                <a:latin typeface="Arial"/>
              </a:rPr>
              <a:t>Rimini 22-24.04.20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asellaDiTesto 6"/>
          <p:cNvSpPr/>
          <p:nvPr/>
        </p:nvSpPr>
        <p:spPr>
          <a:xfrm>
            <a:off x="2771640" y="620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ME SCU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0564-F79F-4738-8D90-9090C370182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asellaDiTesto 5"/>
          <p:cNvSpPr/>
          <p:nvPr/>
        </p:nvSpPr>
        <p:spPr>
          <a:xfrm>
            <a:off x="755640" y="3762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1. Motivazione iniz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9C60-7F53-4E00-AB9E-D068FBD9993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asellaDiTesto 5"/>
          <p:cNvSpPr/>
          <p:nvPr/>
        </p:nvSpPr>
        <p:spPr>
          <a:xfrm>
            <a:off x="179280" y="16200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2. Identificazione del problema e obiettivi del proget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(A quali bisogni del territorio rispond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24E9-01F4-4494-97DE-C15BC14AAD3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asellaDiTesto 5"/>
          <p:cNvSpPr/>
          <p:nvPr/>
        </p:nvSpPr>
        <p:spPr>
          <a:xfrm>
            <a:off x="900000" y="20628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3. Strategia adott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(Come raggiungere l’obiettivo/gli obiettivi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52BF-5AD0-4F4F-81D0-F6C36968CC9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sellaDiTesto 5"/>
          <p:cNvSpPr/>
          <p:nvPr/>
        </p:nvSpPr>
        <p:spPr>
          <a:xfrm>
            <a:off x="487440" y="10332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4. Fasi di realizza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(Timeline: cosa, chi, quando?)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0"/>
          <p:cNvSpPr/>
          <p:nvPr/>
        </p:nvSpPr>
        <p:spPr>
          <a:xfrm>
            <a:off x="457200" y="979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D589-43BB-4BEB-9687-1F508EF7642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asellaDiTesto 5"/>
          <p:cNvSpPr/>
          <p:nvPr/>
        </p:nvSpPr>
        <p:spPr>
          <a:xfrm>
            <a:off x="684360" y="339840"/>
            <a:ext cx="793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5. Traguardi di competen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Quali competenze disciplinari svilupp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2071-52A3-4587-9085-F3169677E975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asellaDiTesto 2"/>
          <p:cNvSpPr/>
          <p:nvPr/>
        </p:nvSpPr>
        <p:spPr>
          <a:xfrm>
            <a:off x="934920" y="26028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6. Risultati raggiun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(Benefici sociali/risposte ai bisogni di parten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8019-6D55-45E2-A529-2897C248D73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asellaDiTesto 5"/>
          <p:cNvSpPr/>
          <p:nvPr/>
        </p:nvSpPr>
        <p:spPr>
          <a:xfrm>
            <a:off x="108000" y="206280"/>
            <a:ext cx="87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7. Valuta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(Che cosa valutiamo e con quali strumenti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0735-355E-418E-9B91-E5FE1C775A2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asellaDiTesto 5"/>
          <p:cNvSpPr/>
          <p:nvPr/>
        </p:nvSpPr>
        <p:spPr>
          <a:xfrm>
            <a:off x="250920" y="35100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Eventuale video di presentazione del proget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(durata massima: 2 minut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ttangolo 6"/>
          <p:cNvSpPr/>
          <p:nvPr/>
        </p:nvSpPr>
        <p:spPr>
          <a:xfrm>
            <a:off x="971640" y="15526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INK O ALTR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5T14:04:06Z</dcterms:created>
  <dc:creator>Tiziana_</dc:creator>
  <dc:description/>
  <dc:language>en-US</dc:language>
  <cp:lastModifiedBy>Administrator</cp:lastModifiedBy>
  <dcterms:modified xsi:type="dcterms:W3CDTF">2020-02-28T07:09:58Z</dcterms:modified>
  <cp:revision>315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40</vt:lpwstr>
  </property>
</Properties>
</file>